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79550"/>
        <c:axId val="93269483"/>
      </c:barChart>
      <c:catAx>
        <c:axId val="67879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69483"/>
        <c:crosses val="autoZero"/>
        <c:auto val="1"/>
        <c:lblAlgn val="ctr"/>
        <c:lblOffset val="100"/>
        <c:noMultiLvlLbl val="0"/>
      </c:catAx>
      <c:valAx>
        <c:axId val="93269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79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9A7-94A2-4ED9-9F03-1E066A16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03A-6CFF-4648-9DB8-037B7AA1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A50E-3981-4C5A-A30A-FD7CD9A7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F42-2A81-4E61-AC65-6086676E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F315-79D8-4400-A622-F820E904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D87-2B1D-40BD-AD7E-D9DD79C9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8C4-FD40-4506-B362-3AF51833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EA6-497F-4382-8851-9FD5719D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D4BE-6E84-4059-BFD9-405557BB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B5FB-B81D-4820-BD11-E6253233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C6F7-C0E5-4BA3-94D3-749B6454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F7B1-7765-45AA-A001-3FB63FF7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2847A-1356-4FBC-9239-A19D5ADBA0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