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95151"/>
        <c:axId val="86028532"/>
      </c:barChart>
      <c:catAx>
        <c:axId val="59195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28532"/>
        <c:crosses val="autoZero"/>
        <c:auto val="1"/>
        <c:lblAlgn val="ctr"/>
        <c:lblOffset val="100"/>
        <c:noMultiLvlLbl val="0"/>
      </c:catAx>
      <c:valAx>
        <c:axId val="86028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95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3A3-8CD2-4DF4-8D80-E9BFB46C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DA5-8419-4278-953C-E49292E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3FC-63C1-4F51-B8E2-2ECF2B7B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8FB-A249-4952-BB8F-A2F9D89A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562-5980-45B1-8EB7-A41688DB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B1D-FEEA-4DFC-992A-82CDA3CE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81AD-6814-4AAB-B589-3275C7A0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0E2-67EA-45FF-8951-EDB5D9DA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57A-BC87-45D9-94E5-F7DA9CAD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F2A-E87B-4838-8028-DD8EF6A6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635-9730-4B40-975E-5715F570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E3A-9A3F-4A86-B081-05067BBC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C5010-2A1D-4CE7-88F2-53C243B23E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